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CE2-B618-43CF-A173-D4BB77E4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934-B488-436B-A4C1-198410E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ACE-7610-4B08-8F7A-90CFD924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6F3-522F-4757-AA4D-E10784FC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B95-6C10-4255-8BD2-4718DB4B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C3E-2F11-4340-AA10-066EE05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A1A-4922-4C68-AC69-1F51B4B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BDA-0429-4615-BC7C-F257CB5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1ED-D00F-4535-A24D-2B217D53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1E4-5D3C-4A36-BAEC-BF7D2DF7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F94-B41B-43B9-9448-2D9FDE8B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8C2-E9FA-4C52-9053-0A2E32FB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6AC-792D-4D27-9A89-B3E1B5A7D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692360" y="191628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БОУ «Старокурмашевская ООШ» Актанышского муниципалного района 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9528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дминистр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03640" y="3068640"/>
            <a:ext cx="273672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203640" y="1052640"/>
            <a:ext cx="2448000" cy="720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д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419640" y="4005360"/>
            <a:ext cx="2232000" cy="57600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о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таршеклас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084720" y="3933720"/>
            <a:ext cx="1295640" cy="5749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2484360" y="1773360"/>
            <a:ext cx="71928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4427640" y="2781360"/>
            <a:ext cx="0" cy="287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1547640" y="1989000"/>
            <a:ext cx="1656000" cy="1511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508720" y="4221000"/>
            <a:ext cx="576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427640" y="3716280"/>
            <a:ext cx="0" cy="2890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4427640" y="1773360"/>
            <a:ext cx="0" cy="431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5651640" y="1773360"/>
            <a:ext cx="649080" cy="14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5940000" y="1989000"/>
            <a:ext cx="1079640" cy="1584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23" descr=""/>
          <p:cNvPicPr/>
          <p:nvPr/>
        </p:nvPicPr>
        <p:blipFill>
          <a:blip r:embed="rId2"/>
          <a:stretch/>
        </p:blipFill>
        <p:spPr>
          <a:xfrm>
            <a:off x="176040" y="-85680"/>
            <a:ext cx="8425080" cy="1281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7"/>
          <p:cNvSpPr/>
          <p:nvPr/>
        </p:nvSpPr>
        <p:spPr>
          <a:xfrm>
            <a:off x="3419640" y="2133720"/>
            <a:ext cx="2230200" cy="64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тель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ще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300720" y="1484280"/>
            <a:ext cx="2230560" cy="503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даг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2987640" y="4149720"/>
            <a:ext cx="57636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3348000" y="4581360"/>
            <a:ext cx="50328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5435640" y="4581360"/>
            <a:ext cx="504720" cy="28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3"/>
          <p:cNvSpPr/>
          <p:nvPr/>
        </p:nvSpPr>
        <p:spPr>
          <a:xfrm>
            <a:off x="4643280" y="4365720"/>
            <a:ext cx="0" cy="6476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1116000" y="3789360"/>
            <a:ext cx="187164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е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411280" y="4653000"/>
            <a:ext cx="122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1649520" y="4897440"/>
            <a:ext cx="1295280" cy="8240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су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0920" y="5030640"/>
            <a:ext cx="1873080" cy="7192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уризму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8"/>
          <p:cNvSpPr/>
          <p:nvPr/>
        </p:nvSpPr>
        <p:spPr>
          <a:xfrm>
            <a:off x="5867280" y="4869000"/>
            <a:ext cx="1944720" cy="865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митет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рганизацио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>
            <a:off x="1835280" y="4508640"/>
            <a:ext cx="0" cy="1800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>
            <a:off x="2916360" y="5445000"/>
            <a:ext cx="0" cy="93672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4643280" y="5734080"/>
            <a:ext cx="0" cy="71928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2"/>
          <p:cNvSpPr/>
          <p:nvPr/>
        </p:nvSpPr>
        <p:spPr>
          <a:xfrm>
            <a:off x="6732720" y="4508640"/>
            <a:ext cx="0" cy="36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6732720" y="5734080"/>
            <a:ext cx="0" cy="5745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187280" y="6308640"/>
            <a:ext cx="6985080" cy="405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ное ученическое само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7480" y="216000"/>
            <a:ext cx="64389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ели деятельности школьног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240" y="1343160"/>
            <a:ext cx="38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щита и представление прав и интересов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йствие школьникам в решении образовательных, социальных вопросов, затрагивающих интересы школь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хранение и развитие демократических традиций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чностное развитие учащихся в процессе взаимодейств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C:\Users\адиля\Pictures\101___09\IMG_0332.JPG"/>
          <p:cNvPicPr/>
          <p:nvPr/>
        </p:nvPicPr>
        <p:blipFill>
          <a:blip r:embed="rId2"/>
          <a:stretch/>
        </p:blipFill>
        <p:spPr>
          <a:xfrm>
            <a:off x="6456240" y="835200"/>
            <a:ext cx="2327400" cy="174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адиля\Desktop\фотография\илдус\SDC13282.JPG"/>
          <p:cNvPicPr/>
          <p:nvPr/>
        </p:nvPicPr>
        <p:blipFill>
          <a:blip r:embed="rId3"/>
          <a:stretch/>
        </p:blipFill>
        <p:spPr>
          <a:xfrm>
            <a:off x="3760920" y="343224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C:\Users\адиля\Desktop\фотография\мэктэп чаралар\133___02\IMG_6485.JPG"/>
          <p:cNvPicPr/>
          <p:nvPr/>
        </p:nvPicPr>
        <p:blipFill>
          <a:blip r:embed="rId4"/>
          <a:stretch/>
        </p:blipFill>
        <p:spPr>
          <a:xfrm>
            <a:off x="6066000" y="4632480"/>
            <a:ext cx="267624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C:\Users\адиля\Desktop\фотография\мэктэп чаралар\134___03\IMG_6683.JPG"/>
          <p:cNvPicPr/>
          <p:nvPr/>
        </p:nvPicPr>
        <p:blipFill>
          <a:blip r:embed="rId5"/>
          <a:stretch/>
        </p:blipFill>
        <p:spPr>
          <a:xfrm>
            <a:off x="3938760" y="1670040"/>
            <a:ext cx="2717640" cy="153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C:\Users\адиля\Desktop\фотография\мэктэп чаралар\сомбелэ\IMG_5575.JPG"/>
          <p:cNvPicPr/>
          <p:nvPr/>
        </p:nvPicPr>
        <p:blipFill>
          <a:blip r:embed="rId6"/>
          <a:stretch/>
        </p:blipFill>
        <p:spPr>
          <a:xfrm>
            <a:off x="6010200" y="2779560"/>
            <a:ext cx="2847960" cy="160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C:\Users\адиля\Desktop\фотография\фото Ф\фото0079.jpg"/>
          <p:cNvPicPr/>
          <p:nvPr/>
        </p:nvPicPr>
        <p:blipFill>
          <a:blip r:embed="rId7"/>
          <a:stretch/>
        </p:blipFill>
        <p:spPr>
          <a:xfrm>
            <a:off x="3382920" y="5084640"/>
            <a:ext cx="25369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077840" y="1844640"/>
          <a:ext cx="6985080" cy="4732200"/>
        </p:xfrm>
        <a:graphic>
          <a:graphicData uri="http://schemas.openxmlformats.org/drawingml/2006/table">
            <a:tbl>
              <a:tblPr/>
              <a:tblGrid>
                <a:gridCol w="69850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зид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спо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ресс-секрета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т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24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инистр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Редак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</a:t>
                      </a:r>
                      <a:r>
                        <a:rPr b="1" lang="ru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жатый 1,3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2,4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Вожатый 5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-60480"/>
            <a:ext cx="67294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1187280" y="1816200"/>
            <a:ext cx="6508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Школьное самоуправлен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 это процесс конструктивного взаимодействия школьников и администрац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участие школьников в управлении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явление, объединяющее все школьные инициа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кольное самоуправление – это особая форма        инициативной самостоятельной общественной деятельности школьников, направленная на решение вопросов по организации обучения, досуга, а также развития социальной активност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:\Users\адиля\Desktop\фотография\мэктэп чаралар\134___03\IMG_6667.JPG"/>
          <p:cNvPicPr/>
          <p:nvPr/>
        </p:nvPicPr>
        <p:blipFill>
          <a:blip r:embed="rId2"/>
          <a:stretch/>
        </p:blipFill>
        <p:spPr>
          <a:xfrm>
            <a:off x="5870520" y="317520"/>
            <a:ext cx="2908440" cy="163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адиля\Desktop\фотография\мэктэп чаралар\134___03\IMG_6668.JPG"/>
          <p:cNvPicPr/>
          <p:nvPr/>
        </p:nvPicPr>
        <p:blipFill>
          <a:blip r:embed="rId3"/>
          <a:stretch/>
        </p:blipFill>
        <p:spPr>
          <a:xfrm>
            <a:off x="6151680" y="4614840"/>
            <a:ext cx="2627280" cy="14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адиля\Desktop\фотография\мэктэп чаралар\134___03\IMG_6671.JPG"/>
          <p:cNvPicPr/>
          <p:nvPr/>
        </p:nvPicPr>
        <p:blipFill>
          <a:blip r:embed="rId4"/>
          <a:stretch/>
        </p:blipFill>
        <p:spPr>
          <a:xfrm>
            <a:off x="165240" y="317520"/>
            <a:ext cx="2663640" cy="14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адиля\Desktop\фотография\мэктэп чаралар\134___03\IMG_6675.JPG"/>
          <p:cNvPicPr/>
          <p:nvPr/>
        </p:nvPicPr>
        <p:blipFill>
          <a:blip r:embed="rId5"/>
          <a:stretch/>
        </p:blipFill>
        <p:spPr>
          <a:xfrm>
            <a:off x="2798640" y="189000"/>
            <a:ext cx="2936880" cy="165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:\Users\адиля\Desktop\фотография\мэктэп чаралар\134___03\IMG_6676.JPG"/>
          <p:cNvPicPr/>
          <p:nvPr/>
        </p:nvPicPr>
        <p:blipFill>
          <a:blip r:embed="rId6"/>
          <a:stretch/>
        </p:blipFill>
        <p:spPr>
          <a:xfrm>
            <a:off x="3114720" y="4809960"/>
            <a:ext cx="2652840" cy="148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адиля\Desktop\фотография\07122013720.jpg"/>
          <p:cNvPicPr/>
          <p:nvPr/>
        </p:nvPicPr>
        <p:blipFill>
          <a:blip r:embed="rId7"/>
          <a:stretch/>
        </p:blipFill>
        <p:spPr>
          <a:xfrm>
            <a:off x="1060560" y="4511520"/>
            <a:ext cx="15602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28960" y="-777600"/>
            <a:ext cx="231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2054160" y="579600"/>
            <a:ext cx="561492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1000080" y="1857240"/>
          <a:ext cx="7056360" cy="4276800"/>
        </p:xfrm>
        <a:graphic>
          <a:graphicData uri="http://schemas.openxmlformats.org/drawingml/2006/table">
            <a:tbl>
              <a:tblPr/>
              <a:tblGrid>
                <a:gridCol w="601560"/>
                <a:gridCol w="3867120"/>
                <a:gridCol w="2587680"/>
              </a:tblGrid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рипова Гуль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йр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ид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а Диляфруз Марсе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лимов Рафил Гамис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ипов Риг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ил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данова Язиля Ильну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фарова Гузелия Айзат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сс-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липова Гульнара Нурсаяф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риева Ильзира Абуда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р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иева Лейля Рим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тый 1,3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рагимова Гульзада Рамил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2,4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имова Илюза Ильяс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жатый 5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56"/>
          <p:cNvSpPr/>
          <p:nvPr/>
        </p:nvSpPr>
        <p:spPr>
          <a:xfrm>
            <a:off x="2270160" y="1545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C:\Users\адиля\Desktop\конф стенд\конф 14\fon-mat.jpg"/>
          <p:cNvPicPr/>
          <p:nvPr/>
        </p:nvPicPr>
        <p:blipFill>
          <a:blip r:embed="rId1"/>
          <a:stretch/>
        </p:blipFill>
        <p:spPr>
          <a:xfrm>
            <a:off x="-3240" y="1440"/>
            <a:ext cx="914724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64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Ученический комит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совещания членов советов классов, ответственный за дежурство разъясняет цели, задачи, обязанност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разрабатывает систему контроля посещения, успеваемости учащихся по школе и класс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оводит рейды с целью проверки учебных принадлежностей, подготовленности к урокам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предоставляет отчет о работе председателю Совета старшекласс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адиля</dc:creator>
  <dc:description/>
  <dc:language>en-US</dc:language>
  <cp:lastModifiedBy>Юнусова</cp:lastModifiedBy>
  <cp:lastPrinted>2015-11-20T10:02:35Z</cp:lastPrinted>
  <dcterms:modified xsi:type="dcterms:W3CDTF">2015-11-20T10:03:32Z</dcterms:modified>
  <cp:revision>20</cp:revision>
  <dc:subject/>
  <dc:title>Слайд 1</dc:title>
</cp:coreProperties>
</file>